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6.pct" ContentType="image/x-pict"/>
  <Override PartName="/ppt/media/image13.png" ContentType="image/png"/>
  <Override PartName="/ppt/media/image5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29.png" ContentType="image/png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ct" ContentType="image/x-pict"/>
  <Override PartName="/ppt/media/image28.png" ContentType="image/png"/>
  <Override PartName="/ppt/media/image15.png" ContentType="image/png"/>
  <Override PartName="/ppt/media/image14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0C3B-1AE7-41F4-8DCE-9400E6CA8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ies of an organic molecule are not solely determined by the carbon skeleton but also by the arrangements of atoms attached to it. Certain groupings of atoms call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found to reoccur time and time again in many different molecules, often having important roles in the reactions the molecule can participate 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the male and female hormones, testosterone and estradiol, differ from each other only by the attachment of different functional groups to an identical carbon skele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we study carbon -- is it the most abundant element in living organis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&amp; O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is the next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hemistry = organic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a foundational at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it so 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be a good building block if you only form 1 or 2 b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sugars: 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 be arranged in differ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xt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ormula but different structurally &amp; therefore different functionally. Molecular shape determines biological prope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Isomers may be ineffective as medi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B904-E117-4AF3-8A91-970E78608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1D0D-FE9B-45A6-95B0-C12AD4D3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7ED3-8B83-4C42-973F-77C60A84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D49F-4436-4C2E-A805-CD2C38FAE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4748-898F-40CB-B104-DBCD765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4436-9B4F-4674-9799-2DE24EC6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FB25-BFAD-4A62-A55E-D0E7049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333C-AD55-493E-B16B-D0AE6AEF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F76D-100D-4083-B423-636C0600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8A97-F49B-4B25-BC21-EED019CE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8112-DBAA-4DA2-901D-7E6D006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494C-CAE8-4084-89C9-968EA9A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1017-87A1-44F6-8E83-D736B338404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image" Target="../media/image9.pct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4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hemistry of Carb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533520"/>
            <a:ext cx="265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ometric 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differ in arrangement around C=C double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me covalent partnershi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30236" r="0" b="48838"/>
          <a:stretch/>
        </p:blipFill>
        <p:spPr>
          <a:xfrm>
            <a:off x="1981080" y="3886200"/>
            <a:ext cx="529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antiomer (stereo) 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hich are mirror images of each 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bonded to 4 different atoms or grou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ssymetric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ft-handed &amp; right-handed vers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” versions are biologically activ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51093" r="13692" b="4724"/>
          <a:stretch/>
        </p:blipFill>
        <p:spPr>
          <a:xfrm>
            <a:off x="5181480" y="4237200"/>
            <a:ext cx="38862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1908000"/>
            <a:ext cx="2819160" cy="228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al differences create important functional significan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mino acid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alani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alanine used in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alani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dici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version activ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ver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times with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gic results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67280" y="4417920"/>
            <a:ext cx="32004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alidomid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scribed to pregnant women in 50’s &amp; 60’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 morning sickness, but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ereoisomer caused severe birth defec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2730600" cy="2711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42166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ubstitute other atoms or groups around the 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thane vs. ethan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 replaced by an hydroxyl group (–OH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npolar vs. pola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as vs. liqui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iological effects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4120" y="4799160"/>
          <a:ext cx="1766880" cy="114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99160"/>
                    <a:ext cx="176688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451840" y="6049080"/>
            <a:ext cx="11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thanol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666880" y="4952880"/>
          <a:ext cx="1219320" cy="91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95288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593800" y="601884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th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533520"/>
            <a:ext cx="265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nents of organic molecules that are involved in chemical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ive organic molecules distinctive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male &amp; female hormones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iva la differenc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sic structure of male &amp; female hormones is </a:t>
            </a:r>
            <a:r>
              <a:rPr b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identical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dentical C skeleton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tachment of different functional group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teract with different targets in the bod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914400" y="3805200"/>
            <a:ext cx="74674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ypes of 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6 functional groups most important to chemistry of lif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xy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min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nyl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ulfhydry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xy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phosph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ffect reactiv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rease solubility in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x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c compounds with OH =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alcohol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mes typically end in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-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thano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229600" cy="209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0" r="65856" b="47389"/>
          <a:stretch/>
        </p:blipFill>
        <p:spPr>
          <a:xfrm>
            <a:off x="7162920" y="431640"/>
            <a:ext cx="142236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Carbo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ving things are made of cell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72%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3% salts (Na, Cl, K…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25% carbon compou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tei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56577" b="66794"/>
          <a:stretch/>
        </p:blipFill>
        <p:spPr>
          <a:xfrm>
            <a:off x="7162920" y="372960"/>
            <a:ext cx="1930320" cy="1455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n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O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double bonded to 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C=O at end molecule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aldelhyd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C=O in middle of molecule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keto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63435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0" t="0" r="53421" b="0"/>
          <a:stretch/>
        </p:blipFill>
        <p:spPr>
          <a:xfrm>
            <a:off x="6934320" y="380880"/>
            <a:ext cx="1993680" cy="1943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x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OH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double bonded to O &amp; single bonded to OH gro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pounds with COOH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ac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atty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in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0" b="17459"/>
          <a:stretch/>
        </p:blipFill>
        <p:spPr>
          <a:xfrm>
            <a:off x="533520" y="4343400"/>
            <a:ext cx="82296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64098" b="0"/>
          <a:stretch/>
        </p:blipFill>
        <p:spPr>
          <a:xfrm>
            <a:off x="7391520" y="419040"/>
            <a:ext cx="1536480" cy="1943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ino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N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 attached to 2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pounds with N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ami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ni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cts as bas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monia picks up 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rom solu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0" b="26182"/>
          <a:stretch/>
        </p:blipFill>
        <p:spPr>
          <a:xfrm>
            <a:off x="83808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lfhydr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 bonded to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pounds with SH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hio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H groups stabilize the structure of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214880"/>
            <a:ext cx="7924680" cy="1805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8519" b="0"/>
          <a:stretch/>
        </p:blipFill>
        <p:spPr>
          <a:xfrm>
            <a:off x="7543800" y="457200"/>
            <a:ext cx="1155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3760" r="65904" b="0"/>
          <a:stretch/>
        </p:blipFill>
        <p:spPr>
          <a:xfrm>
            <a:off x="6819840" y="395280"/>
            <a:ext cx="2247840" cy="2347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at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 bound to 4 O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nects to C through an 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re anions with 2 negative charg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 of 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s to transfer energy between organic molecules (ATP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76240" y="4419720"/>
            <a:ext cx="73915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Functional Group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se are the building blocks for  biological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and that comes next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388620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c chemistry is the study of 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u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 atoms are versatile building block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nding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stable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0" r="0" b="19366"/>
          <a:stretch/>
        </p:blipFill>
        <p:spPr>
          <a:xfrm>
            <a:off x="1066680" y="4724280"/>
            <a:ext cx="5207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447920" y="1371600"/>
            <a:ext cx="6019560" cy="52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7754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mplex molecules assembled like TinkerToy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mplest C molecules = hydrocarb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binations of C &amp; H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mplest HC molecule = meth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carbon bound to 4 H atom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pola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t soluble in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ab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ry little attraction between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 gas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934320" y="2971800"/>
            <a:ext cx="19047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 can gro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ding C-C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raight li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tha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exan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anch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sohexan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yclohexa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838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7010280" y="1600200"/>
          <a:ext cx="1219320" cy="91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60020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895480"/>
          <a:ext cx="2895480" cy="914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895480"/>
                    <a:ext cx="289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267080" y="4648320"/>
            <a:ext cx="2286000" cy="112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7238880" y="4343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775280" y="129456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th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5800" y="3686760"/>
            <a:ext cx="114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hex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9840" y="5866560"/>
            <a:ext cx="185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yclohex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7520" y="5790240"/>
            <a:ext cx="15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sohex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83560" y="12945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meth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organic 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147"/>
          <a:stretch/>
        </p:blipFill>
        <p:spPr>
          <a:xfrm>
            <a:off x="304920" y="1371600"/>
            <a:ext cx="861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ith same molecular formula but different structur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chemical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9584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2286000" cy="1125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uctural 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differ in structural arrangement of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69770"/>
          <a:stretch/>
        </p:blipFill>
        <p:spPr>
          <a:xfrm>
            <a:off x="1981080" y="3124080"/>
            <a:ext cx="52977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4T03:14:32Z</cp:lastPrinted>
  <dcterms:modified xsi:type="dcterms:W3CDTF">2005-09-14T03:23:11Z</dcterms:modified>
  <cp:revision>250</cp:revision>
  <dc:subject>Introduction to the Internet &amp; Web sites</dc:subject>
  <dc:title>Small Business Success on the Web</dc:title>
</cp:coreProperties>
</file>